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BE1-25E2-44B9-B504-92A0B0DC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25B-F4E8-4EE4-BC74-E3529BE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9818-0783-46AE-90EA-99BBBD5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66ADB-C69B-4A39-B620-E5E55B1B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7CAF1-B21A-4EB1-B243-45F39B0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DF57B-455C-49CB-B184-774BE19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A4CCD-499B-462E-AA5E-EEF9A768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F229-D4B6-4F57-9079-7D99858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1EFD4-7709-4EBA-BA5B-C1B3A837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70A30-7455-458A-A75A-34E3B5DE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A08B9-0EAE-4179-A47C-99D6F59D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92810-2F61-4A76-AE43-C6DA4FDD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B6F-16AA-4E9A-87ED-1E44788F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2CF1B-1C8B-47FC-B6A4-11CB483F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56B74-C135-437B-B403-142F21F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E054-5858-453E-B14E-865F905D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9839-B8E0-47FE-9FDB-0DF4B919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90A6-8DD5-4DDF-9D08-F3497B7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AD32C-FA5F-4D6C-AF18-81C2807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05227-5C60-485D-A1E3-6BA3228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6D92C-C5EC-41E8-9600-D2E95B7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EE2B6-3236-48B2-95FA-0C26CC7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22C24-4A38-4E64-83F5-EB32BACF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79E-F89D-4079-A42C-20CE0723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BC6C3-796A-4150-B7EC-EF1D8A0C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0F6A-D566-4E43-8113-8CC3AA4A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D6EC6-4179-4F62-B2C4-1552A4FF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9AB5-5B65-4905-8C28-FD65CDD6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DFEA-4149-4FB2-A79A-FFB3D57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551A-AF92-4BAA-8159-C74E1BC9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28430-ECC4-4EE2-9E48-ADFB495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9BED-C2B1-4C39-89BB-60DBBED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7912C-F1DE-412D-BD9E-AB76A71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5A42E-7846-4189-BC49-079A307D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79FD-EFE1-40B0-8E63-E784216B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845E-A179-434A-801C-EAA54FED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A7C5D-953B-4F77-BBF1-C0AAD70B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C2DB6-1411-49BC-9CE3-1BE797A9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36E64-4E21-4C3A-BCDF-094E0D09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31753-81EE-4ACC-9E28-16E5E996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25CFD-EA8B-4BEC-B5AE-E4A437C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CAE0-7C83-434D-8AB7-AF26F13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73380-0FC2-4E91-93B3-1D50048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9DA0-F6B1-4858-9248-17178D6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1AE37-845F-4E07-BB14-B9EA09E8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9C7-DBAB-4512-921F-25876A2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37F03-450E-458E-8DB2-C3F40D0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BCBF5-08D8-4C2A-93EF-C189A69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F2CF8-E2E7-427F-AFFF-7EEF952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7F5C3-31E0-43B5-ADB8-193D66AA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0ED22-0569-48D5-A7BE-905C398C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A40B88-0819-42C5-BB63-0BF53917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D69DB8-DE2B-48E4-B848-BCC764BA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48157-56FB-4BF8-B59D-931CE88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F355BC-1F99-4EA7-9186-B7D25AC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1CBFD4-1EAB-40A3-93F3-E705B85D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E7D8-B7AB-4CB2-AF44-3C87F46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9C206-7B75-4A77-BA62-E8B9CCE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06C0C-C357-45D2-9443-5B1E85D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244851-3B65-4053-A616-60289CF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6AF6F9-00E1-4E86-886B-698C011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C9201-6BDF-4D51-B25E-CFEC970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D673C0-69B6-47A9-BD95-E4DBAA42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EB180-02A2-453A-8358-7253D054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7B8-81EB-450B-86D9-6270F41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16D-0D62-43C4-916E-65080B95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2AB-FB51-43A4-BC34-47C60FEC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9C2-5DBE-4232-9876-7BB808D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3DF-7BC0-4166-8E89-B64301A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141-4C48-48B3-A1FC-B795E33C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6D4F-A258-4B17-A5A3-84436A1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A639-585F-43CF-AB1A-21B0656E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4B0-2541-43FF-B19E-EE9FBAAB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ABAA-3711-4DE8-8471-B15E63D2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D514-507A-4FA1-B294-5C2997AB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1167-A67D-46A9-9ACF-C110FBFA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BEC8-D169-4289-890E-6ECD686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769B-7B38-48AB-B073-1B7FAD8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436B-D17C-415F-926E-F55380E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F2B-81F9-4380-9468-7D5AD54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839A-BFB9-4989-B99A-1FB2A62F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D936-2A84-4952-ADF0-86DC9AB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C51A-BD7B-4C2D-8BB6-AE4086D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8B2A-7AE3-4DE2-8E28-13EA6C9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3E01-D192-40CF-8C04-10F225A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9E94-7A50-4A57-9B1D-7B71AB36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7BB6-3A33-456E-8DC2-EEC3317B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251D-6FD2-4EF2-805A-C82B962B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0EEC-0B46-4F4A-BB92-749AA99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99B7-6BE1-489C-B801-BDA472CE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E9E-0513-466E-97AC-FFEE31A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C7F3-9645-47D9-925C-ED1A566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375D-076C-48F4-B41C-BB7A17C7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AF37-1C60-4479-B57E-74B5E45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E6D1-8881-4678-882D-239C4E3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8E5A-171C-4C52-B08E-0AFF495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C296-070A-4C61-BF88-E266B5C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BB48-5B77-4948-A503-EFBAF2B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D6F1-F561-4EAD-9CF0-57993A29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17B7-89D6-41C2-A5EA-0EE48646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533B-4626-4ABA-A48F-8638CAC1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153-B7B7-4E89-B4A6-277F8BE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DAF1-385A-4B5F-B5AE-3B0E7C3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B3B4-7711-4AF5-AD30-5BDB801F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A8B2-422B-4C63-B519-8E08E33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BD54-FF61-4760-BE50-21DD675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1336-7A1B-48AB-9E09-EF48D988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944C-826F-481C-9A5D-E467DA4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2462-9063-428F-BA3D-E855BA8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67A3-C84B-4F2C-810A-D2CC2CF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1F12-0D4C-4239-948E-11A344E7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4021-ED14-4C30-979F-4231BE07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E11-6B12-444E-957F-42CD483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02D3-EC28-4CD6-803B-C67D13FB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04A0A-FC11-445F-AB5A-3ECADD64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B10C3-3BBC-4E8F-8027-3C230F1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41171-8FB8-490C-97C6-13D27FB0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E87E0-E6CB-4ACF-BA9A-7EB1F1CE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7D47A-EE45-43F8-84EC-81763FC4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3B5C1-018D-4BA3-8322-49A67F32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41477-97CB-40B4-B697-1289058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3413A-816A-4A26-B6CB-64BBC86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08787-858C-43A6-B54D-30A97C2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647-8A2A-4A50-904B-1FF8E8E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76459-0499-4536-B688-975535E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E62C8-7BF9-4ACE-A709-B9FF8987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E91FE-1D9C-4160-9043-1431E64F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B50C-518C-440F-8FBA-B823F201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B7DF-3CDB-4992-BD90-9151F1C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31D4-69EB-4B23-BA9C-F8C82F99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C505-2390-4EC9-A024-8F77BA19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C78D-EAED-483C-A197-E1955B7D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7E91-78C4-4246-9035-1EE45AB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F96C-B647-4910-9E03-F889C33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F11-CC6D-4A36-B666-2DFD33E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E484-4F16-494C-AC9A-1EF389F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7298-DD38-4565-8662-E080C84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47B8-F1AA-403F-8E10-11F82CF6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4453-33C5-4047-8EF8-80BADF29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BA0AB-B605-40E2-9AB7-9C2862CA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CCF33-2617-4326-9935-726C276F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2D253-43D6-4CDA-A848-BDC0D121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91649-F117-4626-AF10-738C679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F90D7B-CB68-4632-AB63-9E89594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AD6A3-9AE7-4B45-AF4E-2471A77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14B-02FB-424D-8834-92F5EAE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FD2E8-270A-42D3-AB6F-417EF84E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68DA7-35BB-4D17-AC3B-95DC531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B7D26-4579-4241-AA92-6E42F5E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C3ABB-BE9A-48C7-BC78-1F8C2E1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4BF83-2FCD-4974-9E6C-D31F66C1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04827-D55A-403F-949E-5FF72476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47B21-18FC-4539-9865-C52DEF84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6C2FC-CF91-4087-86BE-8D7D3BF4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A36CF-6338-4CEA-863D-97E0F67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7282-47FC-46C2-9F40-ECA6C2D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1513-20A0-4F5F-A968-0F8DF334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14E-18AD-4411-8626-AFCCC03B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BB58-F0FD-4413-AA9B-1625C5CC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8FA8-AD6B-45F1-A1E8-C338B093A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1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2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C55-DAB0-4EA7-A47C-507D4EF5F5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A69-FF7E-4BAA-9052-3F8301B6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3C6-1ED8-46A0-9987-574142BE18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6BA-C3D7-4933-A47F-C2CC92B9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31C-1126-4C16-8D17-77944F25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261F-2A85-4B8E-86AA-B858084FDA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99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A98-8D61-41F7-85D1-8E89D17E8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3D2-45E4-4723-96FD-EED40D4C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B51-A255-4430-ADA9-42F7866351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yborlink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259668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ulture 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another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untry. </a:t>
            </a:r>
            <a:br>
              <a:rPr sz="4400"/>
            </a:b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yborlink.com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iod 4 – Spring 2012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0" name="Picture 8" descr="MP900407492[1]"/>
          <p:cNvPicPr/>
          <p:nvPr/>
        </p:nvPicPr>
        <p:blipFill>
          <a:blip r:embed="rId2"/>
          <a:stretch/>
        </p:blipFill>
        <p:spPr>
          <a:xfrm>
            <a:off x="0" y="0"/>
            <a:ext cx="1849320" cy="18288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" descr="MP900443776[1]"/>
          <p:cNvPicPr/>
          <p:nvPr/>
        </p:nvPicPr>
        <p:blipFill>
          <a:blip r:embed="rId3"/>
          <a:stretch/>
        </p:blipFill>
        <p:spPr>
          <a:xfrm>
            <a:off x="2743200" y="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" descr="MP900444574[1]"/>
          <p:cNvPicPr/>
          <p:nvPr/>
        </p:nvPicPr>
        <p:blipFill>
          <a:blip r:embed="rId4"/>
          <a:stretch/>
        </p:blipFill>
        <p:spPr>
          <a:xfrm>
            <a:off x="7326360" y="4273560"/>
            <a:ext cx="1817640" cy="25844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1" descr="MP900443648[1]"/>
          <p:cNvPicPr/>
          <p:nvPr/>
        </p:nvPicPr>
        <p:blipFill>
          <a:blip r:embed="rId5"/>
          <a:stretch/>
        </p:blipFill>
        <p:spPr>
          <a:xfrm>
            <a:off x="6553080" y="144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2" descr="MP900444244[1]"/>
          <p:cNvPicPr/>
          <p:nvPr/>
        </p:nvPicPr>
        <p:blipFill>
          <a:blip r:embed="rId6"/>
          <a:stretch/>
        </p:blipFill>
        <p:spPr>
          <a:xfrm>
            <a:off x="0" y="4273560"/>
            <a:ext cx="198108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Taiw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ervative dress for men is changing rapidly to more open style, due largely in part to the young sta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king is inappropriate in an situ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know touch anyone’s head particularly the head of someone's child are head in very high regard in Taiw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ders make the deci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gifts given could not be open in your pres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ify tone and volume so as not to appear loud.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1" name="Picture 4" descr="MC900336450[1]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68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68" fill="hold"/>
                                        <p:tgtEl>
                                          <p:spTgt spid="8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6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6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sta Ric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put your feet up on any furniture expect items designed for that purp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geting with your hands or feet is considered distracting and impol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North American gestures will be understood in Costa 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fts frequently exchanged all kinds of special occa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business cards, proposals, and other material printed in both English and Spani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're invited to dinner to a home bring, flowers, chocolate, scotch, or wine. Do not bring calla lilies; they’re associated with funera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Picture 4" descr="MC900444624[1]"/>
          <p:cNvPicPr/>
          <p:nvPr/>
        </p:nvPicPr>
        <p:blipFill>
          <a:blip r:embed="rId1"/>
          <a:stretch/>
        </p:blipFill>
        <p:spPr>
          <a:xfrm>
            <a:off x="7494480" y="0"/>
            <a:ext cx="16495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6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9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gentin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ntact i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at on the shoulder = friendshi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er your mouth when you are coug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 on the streets is ru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der beef and red wine= national symb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uest should always wait for host to sit down before they 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omeone host a par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7" name="Picture 4" descr="MC900444602[1]"/>
          <p:cNvPicPr/>
          <p:nvPr/>
        </p:nvPicPr>
        <p:blipFill>
          <a:blip r:embed="rId1"/>
          <a:stretch/>
        </p:blipFill>
        <p:spPr>
          <a:xfrm>
            <a:off x="6610320" y="0"/>
            <a:ext cx="2533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taly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acks are generally not warn by either se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dress in quiet expensive eleg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ccessories such as shoes and leather goods will make good impression with the Ital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money” is not a common phrase in Ita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expect quick decisions or actions to take place, as the Italians bureaucracy and legal systems are sh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exchange business cards at social events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Picture 4" descr="MP900432996[1]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ea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shion is very important to Venezuelan wom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nezuelans often touch each others arm or jacket during convers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ure while seated is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n dining wait until everyone is served before to 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indicate you have finished eating place your  utensils parallel and diagonally across your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like lunch, dinner is for socializing not for busines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P900442775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g Ko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 is a lucky color in Hong K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is meaning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have a business meeting by wearing a red tie it impresses the h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uest of honor make the first toast you shouldn’t rub your chopsticks together because you basically saying that there food is not too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low your nose at the dinner table or in 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6" name="Picture 4" descr="MP900177113[1]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9" dur="2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 must wear suit and tie for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en must wear dresses or pant su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 can be worn only if man are work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an must keep their upper arms inches, beau and legs covered at all ti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not hit their hea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d is considered the seat of the sou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stling is impoli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ver point at a pers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9" name="Picture 4" descr="MP900179395[1]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nam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mian business men in higher position wear su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hould wear a dress or shirt and bl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houldn’t be wearing any revealing clo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mian women are taking more and more managerial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ign business women should always include spouses in invi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fts are not normally exchanged when entertaining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Picture 4" descr="MP900444415[1]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9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Russia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24382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rts should be worn rather than p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sidered rude to stand with your hand in your poc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should always cover their heads when entering any Russian orthodox chu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shaking hands with someone you must take off you gloves or its considered ru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considered impolite to show the soles of your sh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cceptable to be 15 to 30 minutes lat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4" descr="MP900443820[1]"/>
          <p:cNvPicPr/>
          <p:nvPr/>
        </p:nvPicPr>
        <p:blipFill>
          <a:blip r:embed="rId1"/>
          <a:stretch/>
        </p:blipFill>
        <p:spPr>
          <a:xfrm>
            <a:off x="7516800" y="304920"/>
            <a:ext cx="16272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should rise and shake women's hand when entries room but if female seated she does not need to 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raise your right fist to head level is a sign of a commun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a meal keep our hands above the table at all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whine is a National 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ality in business, meeting start and a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wn is master hot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4" descr="MP900443307[1]"/>
          <p:cNvPicPr/>
          <p:nvPr/>
        </p:nvPicPr>
        <p:blipFill>
          <a:blip r:embed="rId1"/>
          <a:stretch/>
        </p:blipFill>
        <p:spPr>
          <a:xfrm>
            <a:off x="7770960" y="0"/>
            <a:ext cx="13730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4:08:48Z</dcterms:created>
  <dc:creator>Malden Public Schools</dc:creator>
  <dc:description/>
  <dc:language>en-US</dc:language>
  <cp:lastModifiedBy>mpstech</cp:lastModifiedBy>
  <dcterms:modified xsi:type="dcterms:W3CDTF">2012-03-19T16:09:30Z</dcterms:modified>
  <cp:revision>10</cp:revision>
  <dc:subject/>
  <dc:title>The culture of another country.</dc:title>
</cp:coreProperties>
</file>